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4DA-160B-4D2E-9BAE-B4DFAB87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D3C-38F8-4568-9D00-63DC61CC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9EA45-12E0-4DC5-BD57-BE4FCCA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B6999-370F-4290-8587-FF3FC4E5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6108-036F-4720-B66E-5FAE0E3E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13CF1-8AAE-4110-B0A1-963576B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5D18F-76AC-4A1F-8115-539BA6E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17BDB-C1E0-40A3-8C93-C66C7DB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5FDC9-8EB9-4690-ACAB-BDCBDE5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E99F-2964-4FE1-AEA3-CA8AF83F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19009-698F-416C-85DF-D573DE85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4B16F-5016-4AA8-ADCD-726EF43B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05B-9BCD-45F9-B91A-093A4A4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E374A-EE58-4071-92F6-7EE81C4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3A4C-312B-425F-BFC5-08A499F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8DBB4-E1F8-483C-85AE-AAFF7D2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6AE88-EF03-427C-8CFD-088287C2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1276D-55FD-4040-B774-0283F632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F8DB7-32B7-49E0-B852-4847C65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3D3A2-31FC-412D-82DC-D68E74F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21D8E-245B-4E45-BD23-8A0461E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6E15B-0F06-4696-B42D-D970A06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7FF51-8FA0-4117-BF34-CF0166FA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0D9-B6C7-4867-AA71-8CB0EBC4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97458-8A87-400C-8981-27F3CF19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A9854-F2D2-4519-A783-4D976EAA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36763-A536-431F-9018-BB69C77C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B89A5-2379-4E85-8CD1-6CA5DF7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184A-35E2-43BC-9ABB-3468F6B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0884-27F0-4818-9C73-61D77B37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92756-534C-4C26-AEAA-92619BC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866C2-BF51-45E6-A1D7-69AC3050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CB060-266A-47B1-9C3C-6D3ABF8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0C23-7DF8-4D96-BD52-2CE501B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14B3-D950-4150-ABE6-DBB3F26B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DD5BF-CBBE-46C0-99F9-59951378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3832C-3069-40BB-B115-243DB31B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53B90-6B9A-453D-BE23-BD395EC2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64D47-24AB-4ABB-8709-9F7553A3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A5210-0796-496B-B5CA-DE249E4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F277D-0A70-4CE6-81EB-1963967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26CF9-33E3-45EF-B63C-0055BE7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37D34-5F59-417F-A40F-6B2CEEE6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2944B-5AAA-4C83-85A4-7D303709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386FE-827E-4874-90E8-549284C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961D-CC7A-41B7-B495-2DD7888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33BC1-DEB0-4897-BA07-C5058B9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88659-6493-4F05-B48B-8844454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674FF-FE53-4D97-8AF2-E02D2E36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F729D-26DA-4894-9E4B-A03C8E15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717F3-218E-4DF0-A840-5A12E98A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F6280-6C56-4A02-9BCA-6AD0CCF8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2D446-BB0B-4229-BC4D-93F489CF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CCCBF-76C6-4AE4-8279-8B7C752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0F4E4-C8B2-417B-8500-3AA9105F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06A8F-2A1D-44F1-88C3-35EDD9A8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1D2B-B4EC-4A00-9EAB-AD89F49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94D9C-8BF5-4D26-830D-4DC4BF8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EB67B-DCBD-43EC-AB0C-DD37D330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39692-EEA8-42C7-AEAD-4A36BBD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B38F0-39A8-44A4-991A-FB4372E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1308F-FE39-4A83-854F-998FBB5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D414D-2096-4088-A65B-8E1C0226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C8872-52F5-464E-ACF3-B081D00C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5E571-5351-48BB-ABCA-122D0D34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2C29F-1C50-45D8-8521-21D196D9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BCB86-DA78-47C4-8D7E-80283807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F63D-B943-4475-B5B7-1D5C962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DFAAF-07A8-4DA0-AF0F-1FBC221D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1B5D6-33F8-447F-9C68-3DFB99C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0578A-1E84-4CE4-89D6-892FC1B6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9AA91-F8E0-49A4-B22A-45ECB7D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FEB7A-3BA8-491C-9D49-F4B16C77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2295D-BD83-48DE-95C4-787DFA8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B2496-3435-439D-9001-DF0FC1A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23DD0-AC4C-462F-B12C-42ABE60A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3C4E3-FCB5-4C81-8BF4-A5939C69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4179D-A3C1-4A00-BDB5-C087DF71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A5C0-AD54-4893-9781-6094777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F4E68-9057-4DDB-8699-2638F094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EBC2A-CB63-4EE6-91E4-875E5741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AB0FE-9071-4E66-960E-1B78E18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04F06-DB1A-4851-A3EC-0DBEC3F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95B7C-3186-4B7E-B3A3-8DB5FCF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391BE-13F8-4E9F-BBB1-E49593C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FA1DF-F131-4B8C-B943-C3AD094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133E6-15B0-4E7C-B3F1-F445E10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D3C81-96A3-4C05-858F-6AE6AB83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4ACC9-68E5-487B-A5CD-C95999FA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CE86-436D-41A7-9C4A-3CD6A54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67F6F-3182-4DE6-8373-495B253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CC8FD-5115-4FEC-A5DF-90C3274A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22782-4A6E-4F64-A202-CA5EEDC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04A19-32BE-42C6-8BC9-B0465BBC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DB138-582C-4E5A-ABF1-60C1FD9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24169-0E14-4511-915D-0419727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68E32-B42D-4554-8DE6-88BDE539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31835-ABE5-460E-9F33-741D89E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07B21-33BB-491F-9F6E-774443A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50004-DB23-476B-A79E-EC2DF1E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7BFD-B7A6-4681-A391-EA601D67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76D11-0391-4CC8-9465-5C95A9C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2AA19-F595-4921-AF61-5D8E5194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6B5E5-6ACA-48CE-A22A-E9DB3952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4181C-6E1B-4217-886F-EAA0F80E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064A9-6211-426F-9D54-FDAAE88C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0F4A5-4EE6-43B3-81E9-8E129C1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E9DB6-4F4A-4F32-8AF3-6ED7917E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DAB3E-B8EF-498D-BED3-64DC1E9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1F3A8-C101-4819-A0BB-805849A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61A0E-0E20-41F6-98C5-29907B0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C05-14DB-4E11-998F-90CC17D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862-6311-4A56-8B48-8F3B7BF9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565D9-AC7B-4A54-97B8-6AF2E3A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9E74D-339C-4F7A-A180-7D72F2D0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D3C3C-5ED8-43CA-A39C-ACD31C80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927BA-62C1-40D5-92EB-FC81E53E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70408-DB72-4419-8B49-1A4A877C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F76EE-BAA3-47C5-9D40-21209323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2551A-6C9F-402B-9F0E-A676339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F5694-E197-4663-BF1D-BE4A2D49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0C057-64D0-48A5-B827-98C96A7C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314EF-EB7A-4119-8C12-ACE4DB4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F80-B3C9-4602-AC93-A4EE556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C6D7D-9EBC-4376-BC00-AB3D4F4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8DBB3-87C1-48F2-99C1-978B5B1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AC2AF-5332-4B3B-89B2-FDFD544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0598B-4563-479D-B9F2-277AC8D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0463D-0D52-4B91-A2A6-3F8BAD1B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4CD55-0EDF-42C2-916D-FE3A0E7C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22F93-BBF3-4AA0-94F0-EA59B9D0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AA5603-0214-47D8-8C64-7006D1F7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0D890-AEFE-429D-907B-EF658E3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E6C6B-9496-40E5-BB8F-2B32FD49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BC63-ED5C-40A0-8FD0-CAD13E8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93F4D-910A-4856-959B-70E9254C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78CC3-6F35-42EA-B1A1-76A9843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03C98-4C39-48A9-8692-971384A4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B8C91-40CC-453B-8B2D-0E9BA0A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5A42C-7C44-4FE4-B884-E0766FEB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FBB7D-3758-4F29-B45E-0BAA9B7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1FE42-E53B-43D8-8F80-2F181A2C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A3F4F-738C-4A9E-BB1F-A00DDBF5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61A63-CDAB-4805-9918-5B68E26D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DEB26-3501-425A-99ED-DBFC6072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AEC-5AF3-449F-88B0-273091A1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F76B7B-7C6D-42A3-AF1D-016B5988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7DAE3-B668-465B-A64C-2DBA199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05381-6FDE-4C90-A4DE-6361A4F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35C3E-A32D-4E4F-9384-3FBB4ACB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14FF2-D4CC-4ACD-9FFC-7C21FADE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7F45D-09FF-4C8C-BFFC-590FFDF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1D4BC-190F-4FFA-ACBC-518D501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FF6CD-F3EF-4F1D-BE6E-C05E1EF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8353B-BB4A-4381-97C1-BAA188C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84EA0-09E5-4C9F-A3BC-DBE1C178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3020-75B6-4084-B6F3-B886A336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658E7-2BC5-4F89-8B5E-F161125A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8ECC8-929F-4882-9FE2-6A814A68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5A4FC-4526-4BCA-AE36-991C339F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28802-19B2-4E17-8034-C03C7C3B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1949F-F879-452A-A76A-AE1F842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A7EE0-7992-46D7-B4A4-05F44EB3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CEC4E-F3D9-4222-AEC8-C8646848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3E62C-F741-48D1-8569-AAE4A26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1CB54-635A-44E9-A0FA-049F998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0200C-95F4-4039-816D-6A29E552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6889-23CF-4115-9A38-983F130C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58A8F-687C-48DD-BEF1-E5A7BD7B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379A6-3E41-4042-A475-9B13C088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3B7B64-42D1-4A48-8093-EAA5907A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2CA4-C518-4CAF-97C0-B4B0A90C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4D7C-09B2-40D3-AFBF-7C091238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A5C8-166F-4DA4-A720-49F5C239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57CD-E7FA-403D-8E3B-35266A6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0CA-43CA-426A-B3EB-6F86A44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726F-99FC-4228-832A-5ABCA207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441C-5B2E-43E3-9B24-B47D347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09C5-E1F9-4C26-9695-0E95D15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71EB-153E-4882-BF90-7805F1E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F113-ACBB-457E-9297-052D8EA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F4EA-2869-4A3E-89E8-F13C99C0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D0C0-19B0-45C5-9BAB-6E039EE4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CCBE-F091-4C01-BB30-8D095113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402A-7D0C-48C5-8209-4047B2BD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95B4-B674-4502-AC3B-082777C7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543-76F8-409D-9815-2E00A6A5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F2E0-4459-45BF-914B-2EC16D3B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C653-790D-4780-95AC-73A7654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71C4-2DD2-4EE1-9A46-2CC803D3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0E27-BD24-4075-A974-5A30208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015F-AF78-411F-8E0D-A960B44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E406-B043-49E3-B198-5DD8130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61B5-712B-41B3-97FF-C1917F84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7927-47A5-4A6A-8699-DF4BF8F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16F5-F73F-4EE9-8A7D-74C560E0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20F7-9E35-41FF-B659-D5C1A6E1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BFB-8880-42D2-A630-4476AA26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D995-0721-4364-A2AC-05E26CD1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606F-8D95-4532-A908-9248086A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BD44-D170-4CDB-A0D0-8D38B50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5B430-69EA-4058-89DA-D350EBF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FB50-E7DB-48E7-8F16-DCB33B94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361F-2B99-4E2E-910E-AE2038F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042D-80F3-4685-9B8E-B718B1A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F970-94AE-430F-BA2B-5F9E280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62A15-BAB8-4493-8B17-C8FF7EEA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887E-0282-4279-B5DE-A504B47F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84A-BE6F-48B2-831B-E3C318F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83AA-835A-448D-BDE4-D8E0C524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16FE-27EA-4644-9A89-40636A24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2B05F-F56E-4760-8BDA-F53F39E1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E3D1-4350-47E2-B1C4-D252AE90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2036-3327-438D-B894-11D5F7F3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4117-9265-4487-9B82-622E1B6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3974-15A6-436D-8E19-D2CDE476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03514-D3FD-4FC1-BACA-2DCB104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4A600-5445-437B-92F5-2CDF219B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49D8-A158-47DE-886B-EC2181B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F43-FFF3-4D1A-8F5D-18B8F6C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CC20-B6AC-4FE7-845C-C99FD10F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7189-D49E-4F57-8E45-56A037A2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B2E31-1952-4F95-90C1-9D09225C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5B01-45AA-4409-B461-F64BDD64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C302C-8BDD-4920-859E-B8B011F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7086-C56F-4961-8B05-B81BFC8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3FC7C-2EE7-4B78-8CC5-6739B0DE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535D-2C24-4941-A22A-A70A906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8C61D-721D-459F-BDDE-7C5C948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2FDC-20D4-4CB0-A4E5-6830A0A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B84-A28B-417C-9A7C-9093C4A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66D8F-4CFF-4398-8140-05AE222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6642-12F1-4FC2-AF58-2D33706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7AB3-52BF-4413-8702-2916AF85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AB474-9614-40F1-A356-9E721ACF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33BB3-F42D-4F31-8F9E-8EF282BA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4C264-E87F-4725-8BB9-368A46AF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9DB7-0C67-4D3E-B18B-1D7716D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2B007-2393-4A16-8709-1D56C03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4CD5-5DD6-48F6-B9ED-B94BE1B8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41D3-ED48-4C21-B73A-14E338D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F05-E79D-4880-9477-CCCFAC6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785A-7FC7-4F4A-BFF8-613DCE0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57FE-CBCA-4225-B20F-FF8CC6D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62BDF-175C-49BB-B435-7C91AA0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6F87A-EED0-42EB-A19E-B8D03EE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FBD9D-ECC1-4F54-A0F2-DE7BE7C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60DE1-3F8F-4836-8108-EC08E55B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E6E2-6B0A-4F42-B676-1A28B7F4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43582-F6C3-4324-8C04-5DB413C0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F3BB-C1AD-4BDF-8ABA-DC8021D8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A873-FB7E-4A11-91CB-1C619D8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EBB9-6FA7-4E73-A62A-CB8D5B69E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B11-FC6A-40A6-B7DD-9E8D80795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C576-DDD0-4923-B202-B2A1EF5E9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97ED-4CF3-4025-81F9-DFEC1EBA1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F472-354C-4BC7-BB09-76AD5303E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9DFD-3921-445C-93E2-E93ED0711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0C47-5E96-48CA-B0E4-421C860B4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0E08-5828-4722-AEE8-804113478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7C3-4FC9-4BF7-BB5A-836529F50B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E374-5118-4D0F-B9BD-03BF62193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683-ADEE-468F-B121-5AE42AE2B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17C-6A5D-4FB0-9C48-75EE23668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CB3C-8A0D-4CA0-87CE-EC11F49C32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4E9-F936-4300-9F34-4A8C5A291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CA6-CC8E-45D1-93D9-35FAB51CDD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283-D8A1-4CCB-8B52-55FACB52D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4C8-F22B-4D09-BE16-10E826B41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5DB4-BAC9-4BBF-8E81-82CC9B6AB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F5A5-AD93-4FA9-B988-447D9F7BA9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E1DC-99E6-4AAF-A0E1-FB6310AE8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00F5-C34D-4F76-8480-FAA319E86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899E-F7AA-4E74-9C4C-EE519BE82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EC5D-1ACB-490D-B30F-73D455E8C1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95E2-87E1-439E-A0E8-7E199D83C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DBB-2171-4340-85B5-88D7E1898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2848-95A0-40CF-BAEE-8787DD276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8D2-D579-473A-B01A-F0519CA9C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DF4-682D-49EB-9616-D4A266C2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C613-01F7-4478-B08C-6EB488935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B9BF-EF45-4931-BE61-1C783E0AF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ABAE-C27E-4FBF-82FA-B37CC2182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2BD-B825-4B09-9F68-0592CBAB5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B44D-C4D0-465C-B299-4FA8A6A12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7F27-DF2B-460E-8F71-1AF817B8B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968-BA95-4EE7-B15B-EB7F581B2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878-1A4F-40DB-A464-FB6D6C043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E6FF-2B85-4F93-931B-4AE34536A6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7D46-4F85-4E98-857A-DF60FA8627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0BA-2E53-41F5-82CE-85DF9CED59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AED0-C500-4F3D-B07E-7EAF4E678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409840" y="3038400"/>
            <a:ext cx="43243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318960" y="1003320"/>
            <a:ext cx="8506080" cy="53150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2714760" y="464976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4143240" y="4643280"/>
            <a:ext cx="1285920" cy="392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5429160" y="550080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6929280" y="5500800"/>
            <a:ext cx="15717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333360" y="1495440"/>
            <a:ext cx="8477280" cy="3867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2"/>
          <a:stretch/>
        </p:blipFill>
        <p:spPr>
          <a:xfrm>
            <a:off x="3000240" y="1857240"/>
            <a:ext cx="1000440" cy="392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3"/>
          <a:stretch/>
        </p:blipFill>
        <p:spPr>
          <a:xfrm>
            <a:off x="4357800" y="1908000"/>
            <a:ext cx="1000080" cy="392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4"/>
          <a:stretch/>
        </p:blipFill>
        <p:spPr>
          <a:xfrm>
            <a:off x="5857920" y="1908000"/>
            <a:ext cx="1000080" cy="392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5"/>
          <a:stretch/>
        </p:blipFill>
        <p:spPr>
          <a:xfrm>
            <a:off x="4786200" y="278604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6"/>
          <a:stretch/>
        </p:blipFill>
        <p:spPr>
          <a:xfrm>
            <a:off x="6143760" y="2786040"/>
            <a:ext cx="1357200" cy="392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7"/>
          <a:stretch/>
        </p:blipFill>
        <p:spPr>
          <a:xfrm>
            <a:off x="1357200" y="489888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8"/>
          <a:stretch/>
        </p:blipFill>
        <p:spPr>
          <a:xfrm>
            <a:off x="2735280" y="4915080"/>
            <a:ext cx="12654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95200" y="1009800"/>
            <a:ext cx="8553600" cy="4838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3286080" y="241776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1000080" y="2857680"/>
            <a:ext cx="2714760" cy="392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3643200" y="3714840"/>
            <a:ext cx="1571760" cy="392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5000760" y="4572000"/>
            <a:ext cx="1857240" cy="392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4857840" y="4989600"/>
            <a:ext cx="37148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38040" y="839880"/>
            <a:ext cx="8467920" cy="26859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419040" y="3525840"/>
            <a:ext cx="8305920" cy="3095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3"/>
          <a:stretch/>
        </p:blipFill>
        <p:spPr>
          <a:xfrm>
            <a:off x="2714760" y="2357280"/>
            <a:ext cx="6143400" cy="392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4"/>
          <a:stretch/>
        </p:blipFill>
        <p:spPr>
          <a:xfrm>
            <a:off x="2714760" y="2800440"/>
            <a:ext cx="5643360" cy="393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5"/>
          <a:stretch/>
        </p:blipFill>
        <p:spPr>
          <a:xfrm>
            <a:off x="2428920" y="4089240"/>
            <a:ext cx="5715000" cy="392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6"/>
          <a:stretch/>
        </p:blipFill>
        <p:spPr>
          <a:xfrm>
            <a:off x="2928960" y="5670720"/>
            <a:ext cx="6143760" cy="393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7"/>
          <a:stretch/>
        </p:blipFill>
        <p:spPr>
          <a:xfrm>
            <a:off x="2928960" y="6180120"/>
            <a:ext cx="53578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257040" y="977760"/>
            <a:ext cx="8629920" cy="565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3286080" y="1714680"/>
            <a:ext cx="5572080" cy="392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3286080" y="2232000"/>
            <a:ext cx="485784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3143160" y="3603600"/>
            <a:ext cx="557208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3143160" y="4118040"/>
            <a:ext cx="5000760" cy="393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714240" y="5224320"/>
            <a:ext cx="54324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318960" y="863640"/>
            <a:ext cx="8506080" cy="5734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2"/>
          <a:stretch/>
        </p:blipFill>
        <p:spPr>
          <a:xfrm>
            <a:off x="714240" y="857160"/>
            <a:ext cx="543240" cy="4618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714240" y="3213000"/>
            <a:ext cx="543240" cy="4622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674640" y="4670280"/>
            <a:ext cx="5428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2" descr=""/>
          <p:cNvPicPr/>
          <p:nvPr/>
        </p:nvPicPr>
        <p:blipFill>
          <a:blip r:embed="rId1"/>
          <a:stretch/>
        </p:blipFill>
        <p:spPr>
          <a:xfrm>
            <a:off x="357120" y="1042920"/>
            <a:ext cx="8429760" cy="4772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750960" y="2928960"/>
            <a:ext cx="542880" cy="461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750960" y="3895560"/>
            <a:ext cx="5428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385920" y="1533600"/>
            <a:ext cx="8372160" cy="3790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730080" y="1500120"/>
            <a:ext cx="543240" cy="4618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3"/>
          <a:stretch/>
        </p:blipFill>
        <p:spPr>
          <a:xfrm>
            <a:off x="709560" y="3416400"/>
            <a:ext cx="5428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2:47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